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DF7-2015-4A5C-9C4F-B8BE52D9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558-A43E-45B7-B309-95C9D915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9340E-332B-43BB-9DC0-A3A98A28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5A895-08EB-4D09-AA7D-A1DDF278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620CC-43AF-4AC0-ABA5-20D8AA5F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A465F-E94B-4EED-AE13-99FA60F3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82CFE-A873-41E0-97EA-13AC527E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4217B-C6F9-4DE6-9173-9C614B02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E54CC-7FC6-4FBF-997F-D4A883F2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10200-30E3-44D0-815F-31FFF0AD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AE4FF-6ACC-46B0-A001-64F286D0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74A-4CC2-4300-82BA-8D7A3555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802-066E-4E7C-A29D-F77FB825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3E61-CE8B-4327-8EAC-214320AE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9A29-49DC-463B-B627-CC839CF2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BFD9-F410-4532-B1E9-57F3042E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9098-4533-4585-B9D3-3F0EAD80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FE37-D29C-48FA-BC5D-B6A2BD7E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26AB-E687-480C-890C-9CE3D58D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D597-7E8C-4767-903F-F962DA69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32B-6455-467B-B32E-E4636898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E669-1154-4D0E-9822-586F145E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90AB-FD3D-4241-963A-A1E22659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8A04-1C84-45AD-8E35-D7BDB7CA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1EB0-A8EC-4B66-8C1D-28742B9A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2CB1-CEA0-40F2-A5E8-4FCFE8CD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B6041-14BE-4011-A38A-84480375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8E065-D433-4221-97AA-2247F59D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84FBA-7D5D-4A94-9792-9F50427B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FBDA8-CFB7-4E43-9391-40A5E200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1316D-D2ED-4653-970A-77635017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796-BA4C-4CF0-869F-82ADC106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B1832-2D28-4E3C-B184-3C57E649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36B44-204F-4F5A-973C-74716007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CED1C-5A79-414F-8230-5732B897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AFA7E-BCF9-473F-8B40-4F6A0092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16271-BE94-41D8-BCA6-E00DFBD6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9BAC-2265-4FCD-B9AF-7E556A74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3E608-9FF8-439D-ACFC-0EAE22ED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3941E9-0F33-4551-A16D-122B3B2E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B3009-B2A2-404A-B977-069E8C99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B0B41-3343-4DC9-9933-3EBD2F39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18D-6CC9-47A4-975C-41D7474C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42C58-FE54-496C-AA72-9D69CA76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71E958-5400-4B84-AC29-26842F9D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0D35D-E297-46FD-B998-3143745F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78A4B8-5478-4E55-B97E-DE262CCF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F14B0-5A3A-47BA-934F-B936D2EB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7E9174-3CB3-415D-80CE-7155D9A9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A8BBE-CCBE-468C-9C3D-C2A7265F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71A34-74E3-4FAC-8723-AB3F53EF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FAEBA1-77E4-4E68-821F-3B803258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DF6A0-7EEA-43DF-B3C8-7CFDBE2A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7EB-1C52-4632-90B3-68851262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A8CBB-24E6-4ED8-B3B2-B0A25258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53B22B-F72A-4500-8E27-AD081350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C83A62-E271-4E86-9D66-ABF37FB3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846F3-0823-485B-BA46-CB2B16CE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3E65F1-043F-49BF-9B70-50636F48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A92EB-A3E7-493B-8520-4B98A155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88C4D-DAFF-4C17-BCED-6428653E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97845-F619-4E03-A798-C41577F2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1BF31-BF11-42DD-9A34-48527521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3B57E-569B-4A6F-A99F-BBB18502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0BE-873D-4238-B110-0DBCC8E4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19905-CD2B-4613-A94C-3E0F7829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F708F-A30C-42EF-B20E-8007940D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76847-F2ED-4E75-B688-B468BC23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0220E-5570-4D09-B900-AA593129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FE06E-1808-425C-82BD-D2EDF4A0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46057-CE57-415D-8142-696A0E73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7908E-11D5-4371-8E35-2E7B21F8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CECB6-1EB6-4BBD-8721-B97BBC7C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34600-3899-472B-9D5F-2EFB9221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CD3DB-02FC-4315-B23F-BDC8A711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CE6-A30B-4F4A-924D-DA48661A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AB117-DCB0-4E9E-AFB8-C36C95EA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2AF9A-B98A-46EE-AFCA-7D009F38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1E899-E6EF-4CF1-956A-BE491567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C6312-8044-4F98-8A9D-C99F677A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F5A02-EFD4-4B6E-A45E-0D300B31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6E710-8F33-4472-8824-359D08C5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92D7E-39E6-45D8-839D-7B858183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0AE8B-A0CC-4837-9DC1-71B9FC88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D525F-A689-4589-BD6C-9498A19E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BC4C1-7185-4EBE-BA1F-DDAC2A09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284-54D6-45E4-A0C6-80614D4C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F8A7F-FE54-4BA0-909A-8368EF77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03AE1-AE74-4475-8B12-5FF8FD0B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7D9E3-CBC1-4D55-AF2A-52165E54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07777-3452-4744-87B6-FADA9561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988F0-B487-4E03-A40D-9D20B220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F285F1-ACC9-4E84-BE81-CF886628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3F50A5-F9CA-4665-AF17-122B0D09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91EAE2-388B-437E-9DE5-47144179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1C3CE9-F7D8-4448-AEE9-8F3389BE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A5262E-7831-4EF5-8220-47FEBCF4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793-B4B9-432C-B333-BC5F9C8F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8038B3-5CA8-4AA5-8820-3A1E4C03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93F39B-7192-4E1C-839D-E0F304FF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83AAAA-7783-4978-BDD4-27BA1B88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048DDB-CB84-43C1-BC61-3F4A5775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69CAD4-5051-40EF-82AD-82AF245E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6A13BD-844C-45F4-84B8-CCDC36A6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4F09DC-E0CE-4625-BB59-41B93E9D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9ED29-3FF1-490F-A61D-5A073194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C597F-B965-4A93-8642-A2D8F5B0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D8536-B046-49E7-846F-C995FB3B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8A33-0389-417A-8344-B248FA10C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722F-0E00-4E7A-BAF0-8363F1CA294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EB5C-EFCA-42BF-ACBE-3C2363E1F043}" type="slidenum">
              <a:rPr b="1" lang="en-US" sz="14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9016-9181-44F8-9749-44B311C09A04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4049-ABBD-42D3-BDBA-62F3C40940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41BC-B2D4-4529-95E4-0BC8F04D89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8FF0-2F71-4D8A-BEDF-17831B57F5F9}" type="slidenum">
              <a:rPr b="1" lang="en-US" sz="14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8D0B-5876-4280-90A0-B220A2F1D95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B8B2-0DAD-47F0-B707-1E408AD563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omeone in the U.S. who is not a Citizen is either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Palatino Linotype"/>
              </a:rPr>
              <a:t>Immigra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Palatino Linotype"/>
              </a:rPr>
              <a:t>or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Palatino Linotype"/>
              </a:rPr>
              <a:t>Nonimmigr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no Linotype"/>
              </a:rPr>
              <a:t>How would someone gain citizenshi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Palatino Linotype"/>
              </a:rPr>
              <a:t>A note about Family Reunification – The WA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 length of the wait depend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whether the sponsor is a citizen or Lawful Permanent Res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what country the relative is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type of relationship (ex: spouse comes sooner than a broth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 lawful permanent resident who wants to bring her husband and 2-year-old daughter from Mexico will have to wait approximately 5-6 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r a citizen to sponsor his brother from the Philippines it will 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7" descr="wait in line"/>
          <p:cNvPicPr/>
          <p:nvPr/>
        </p:nvPicPr>
        <p:blipFill>
          <a:blip r:embed="rId1"/>
          <a:stretch/>
        </p:blipFill>
        <p:spPr>
          <a:xfrm>
            <a:off x="304920" y="2133720"/>
            <a:ext cx="3774960" cy="3124080"/>
          </a:xfrm>
          <a:prstGeom prst="rect">
            <a:avLst/>
          </a:prstGeom>
          <a:ln w="0">
            <a:noFill/>
          </a:ln>
        </p:spPr>
      </p:pic>
      <p:sp>
        <p:nvSpPr>
          <p:cNvPr id="425" name="WordArt 21"/>
          <p:cNvSpPr txBox="1"/>
          <p:nvPr/>
        </p:nvSpPr>
        <p:spPr>
          <a:xfrm>
            <a:off x="5943600" y="5867280"/>
            <a:ext cx="1695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3 Years.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Palatino Linotype"/>
              </a:rPr>
              <a:t>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Roughly 15% of immigrants come to fill positions where there is a shortage of U.S. workers (ex: nurses, computer engineer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Every year there are some visas that are given to professionals with advanced degrees and skilled workers.  The employer must prove that they can’t find a worker domestic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re are very few visas offered to unskilled workers though there are many businesses that have a shortage of these workers.  Available jobs without available visas cause a rise in undocumented immig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6" descr="nurse_pic"/>
          <p:cNvPicPr/>
          <p:nvPr/>
        </p:nvPicPr>
        <p:blipFill>
          <a:blip r:embed="rId1"/>
          <a:stretch/>
        </p:blipFill>
        <p:spPr>
          <a:xfrm>
            <a:off x="457200" y="533520"/>
            <a:ext cx="2019240" cy="32511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programmer"/>
          <p:cNvPicPr/>
          <p:nvPr/>
        </p:nvPicPr>
        <p:blipFill>
          <a:blip r:embed="rId2"/>
          <a:stretch/>
        </p:blipFill>
        <p:spPr>
          <a:xfrm>
            <a:off x="2514600" y="2209680"/>
            <a:ext cx="1981080" cy="30481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middle-east-board"/>
          <p:cNvPicPr/>
          <p:nvPr/>
        </p:nvPicPr>
        <p:blipFill>
          <a:blip r:embed="rId3"/>
          <a:stretch/>
        </p:blipFill>
        <p:spPr>
          <a:xfrm>
            <a:off x="304920" y="3886200"/>
            <a:ext cx="1904760" cy="2666880"/>
          </a:xfrm>
          <a:prstGeom prst="rect">
            <a:avLst/>
          </a:prstGeom>
          <a:ln w="0">
            <a:noFill/>
          </a:ln>
        </p:spPr>
      </p:pic>
      <p:sp>
        <p:nvSpPr>
          <p:cNvPr id="431" name="Ink 25"/>
          <p:cNvSpPr/>
          <p:nvPr/>
        </p:nvSpPr>
        <p:spPr>
          <a:xfrm>
            <a:off x="40963680" y="2676204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21034" y="13742"/>
                </a:moveTo>
                <a:lnTo>
                  <a:pt x="21034" y="13742"/>
                </a:lnTo>
                <a:close/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Palatino Linotype"/>
              </a:rPr>
              <a:t>Fleeing Pers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Roughly 15% of immigrants come as refugees fleeing persec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 U.S. accepts refugees and asylees who are fleeing persecution based on race, ethnicity, nationality, religion, gender, political opinion or membership in a social gro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7" descr="war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Palatino Linotype"/>
              </a:rPr>
              <a:t>Diversity Visa Lo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419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Each year there is a green card lottery to welcome immigrants from countries from which the U.S. receives immigrants at lower r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 applicant must have a high school diploma or have a specific ability/trade.  Their immediate family can come t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re will be </a:t>
            </a:r>
            <a:r>
              <a:rPr b="1" i="1" lang="en-US" sz="2000" spc="-1" strike="noStrike">
                <a:solidFill>
                  <a:srgbClr val="33cc33"/>
                </a:solidFill>
                <a:latin typeface="Palatino Linotype"/>
              </a:rPr>
              <a:t>visas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given out in the lot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eople from countries that have sent more than 50,000 people in the last 5 years are </a:t>
            </a:r>
            <a:r>
              <a:rPr b="0" lang="en-US" sz="2000" spc="-1" strike="noStrike">
                <a:solidFill>
                  <a:srgbClr val="ff3300"/>
                </a:solidFill>
                <a:latin typeface="Palatino Linotype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eligible.  This includes Mexico, El Salvador, China, the Philippines, England, India and other n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 chance of winning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6" descr="lottery family"/>
          <p:cNvPicPr/>
          <p:nvPr/>
        </p:nvPicPr>
        <p:blipFill>
          <a:blip r:embed="rId1"/>
          <a:srcRect l="0" t="0" r="0" b="13665"/>
          <a:stretch/>
        </p:blipFill>
        <p:spPr>
          <a:xfrm>
            <a:off x="5178600" y="1981080"/>
            <a:ext cx="3203280" cy="3048120"/>
          </a:xfrm>
          <a:prstGeom prst="rect">
            <a:avLst/>
          </a:prstGeom>
          <a:ln w="0">
            <a:noFill/>
          </a:ln>
        </p:spPr>
      </p:pic>
      <p:sp>
        <p:nvSpPr>
          <p:cNvPr id="438" name="WordArt 18"/>
          <p:cNvSpPr txBox="1"/>
          <p:nvPr/>
        </p:nvSpPr>
        <p:spPr>
          <a:xfrm>
            <a:off x="3886200" y="5562720"/>
            <a:ext cx="7621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0.8%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Lawful Permanent Residents may become U.S. Citiz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457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Eligible immigrants may choose to go through the proce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o become a U.S. citiz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5" descr="citizenship cer"/>
          <p:cNvPicPr/>
          <p:nvPr/>
        </p:nvPicPr>
        <p:blipFill>
          <a:blip r:embed="rId1"/>
          <a:stretch/>
        </p:blipFill>
        <p:spPr>
          <a:xfrm>
            <a:off x="4724280" y="1828800"/>
            <a:ext cx="3657600" cy="4276800"/>
          </a:xfrm>
          <a:prstGeom prst="rect">
            <a:avLst/>
          </a:prstGeom>
          <a:ln w="0">
            <a:noFill/>
          </a:ln>
        </p:spPr>
      </p:pic>
      <p:sp>
        <p:nvSpPr>
          <p:cNvPr id="442" name="WordArt 7"/>
          <p:cNvSpPr txBox="1"/>
          <p:nvPr/>
        </p:nvSpPr>
        <p:spPr>
          <a:xfrm>
            <a:off x="914400" y="3352680"/>
            <a:ext cx="2666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naturaliz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7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5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o become a Naturalized Citizen You Mu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4648320" y="1905120"/>
            <a:ext cx="3809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Have a green card (5 year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Be physically present in  the U.S. for 2.5 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ay an application fee of nearly $4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ass the citizenship te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ass the interview in Engl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wear to the judge you will follow the laws of the U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Be of good moral charac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7" descr="naturalization"/>
          <p:cNvPicPr/>
          <p:nvPr/>
        </p:nvPicPr>
        <p:blipFill>
          <a:blip r:embed="rId1"/>
          <a:stretch/>
        </p:blipFill>
        <p:spPr>
          <a:xfrm>
            <a:off x="304920" y="1752480"/>
            <a:ext cx="4190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1"/>
          <p:cNvSpPr/>
          <p:nvPr/>
        </p:nvSpPr>
        <p:spPr>
          <a:xfrm>
            <a:off x="1295280" y="1143000"/>
            <a:ext cx="66294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Immigration Deb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mmigration is a front-page news s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debate centers ar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The present undocumented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Future immigration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The costs and benefits of im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The cultural impact of im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Family reu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Border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Knowing who’s within our b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32"/>
          <p:cNvSpPr/>
          <p:nvPr/>
        </p:nvSpPr>
        <p:spPr>
          <a:xfrm>
            <a:off x="838080" y="304920"/>
            <a:ext cx="746784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8"/>
          <p:cNvSpPr/>
          <p:nvPr/>
        </p:nvSpPr>
        <p:spPr>
          <a:xfrm>
            <a:off x="609480" y="2057400"/>
            <a:ext cx="3733920" cy="426708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 Linotype"/>
              </a:rPr>
              <a:t>Fact:  Immigrants contribute positively to our n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ll Labo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y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dd 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hare New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nrich the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ffset an Aging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rengthen our Global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10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4648320" y="1219320"/>
            <a:ext cx="3809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y being BORN in the U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y being born to a U.S. citizen parent or having your parent become a citizen (before you turn 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aturalization (more about this process l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4" descr="Citizen"/>
          <p:cNvPicPr/>
          <p:nvPr/>
        </p:nvPicPr>
        <p:blipFill>
          <a:blip r:embed="rId1"/>
          <a:stretch/>
        </p:blipFill>
        <p:spPr>
          <a:xfrm>
            <a:off x="228600" y="1295280"/>
            <a:ext cx="4268880" cy="5334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Ways to Citize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mmigra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igrants settle in a country intending to stay there permanently and become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me categories of immigrant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wful permanent res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fug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syl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6" descr="flag-immigrants"/>
          <p:cNvPicPr/>
          <p:nvPr/>
        </p:nvPicPr>
        <p:blipFill>
          <a:blip r:embed="rId1"/>
          <a:stretch/>
        </p:blipFill>
        <p:spPr>
          <a:xfrm>
            <a:off x="4267080" y="1905120"/>
            <a:ext cx="449604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Palatino Linotype"/>
              </a:rPr>
              <a:t>Lawful Permanent Resi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Lawful permanent resident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have permission to remain in the US for as long as they choose and remain crime f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y must renew their </a:t>
            </a:r>
            <a:r>
              <a:rPr b="1" lang="en-US" sz="2800" spc="-1" strike="noStrike">
                <a:solidFill>
                  <a:srgbClr val="33cc33"/>
                </a:solidFill>
                <a:latin typeface="Palatino Linotype"/>
              </a:rPr>
              <a:t>green card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very 10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4" descr="LPR"/>
          <p:cNvPicPr/>
          <p:nvPr/>
        </p:nvPicPr>
        <p:blipFill>
          <a:blip r:embed="rId1"/>
          <a:stretch/>
        </p:blipFill>
        <p:spPr>
          <a:xfrm>
            <a:off x="631800" y="1523880"/>
            <a:ext cx="4006800" cy="5105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609480" y="1523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0" y="1447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aw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What is the difference between a </a:t>
            </a:r>
            <a:r>
              <a:rPr b="1" lang="en-US" sz="4000" spc="-1" strike="noStrike">
                <a:solidFill>
                  <a:srgbClr val="ff0000"/>
                </a:solidFill>
                <a:latin typeface="Palatino Linotype"/>
              </a:rPr>
              <a:t>refugee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 and an</a:t>
            </a:r>
            <a:r>
              <a:rPr b="1" lang="en-US" sz="4000" spc="-1" strike="noStrike">
                <a:solidFill>
                  <a:srgbClr val="3333cc"/>
                </a:solidFill>
                <a:latin typeface="Palatino Linotype"/>
              </a:rPr>
              <a:t> asyle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refugee receives permission to come to the U.S. from outside of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fugees are resettled with the help of a refugee resettlement ag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 asylee is already in the U.S. and once here applies for prot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sylees have to prove that they have reason to fear persecution in their home countr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Palatino Linotype"/>
              </a:rPr>
              <a:t>Non-immig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9520" y="182880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emporary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Vi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Others</a:t>
            </a:r>
            <a:r>
              <a:rPr b="0" lang="en-US" sz="2400" spc="-1" strike="noStrike">
                <a:solidFill>
                  <a:srgbClr val="3333cc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ay be in the United States temporarily.  Their visas allow them to stay only for a limited amount of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7" descr="student visa"/>
          <p:cNvPicPr/>
          <p:nvPr/>
        </p:nvPicPr>
        <p:blipFill>
          <a:blip r:embed="rId1"/>
          <a:stretch/>
        </p:blipFill>
        <p:spPr>
          <a:xfrm>
            <a:off x="457200" y="3886200"/>
            <a:ext cx="3124080" cy="2181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usiness"/>
          <p:cNvPicPr/>
          <p:nvPr/>
        </p:nvPicPr>
        <p:blipFill>
          <a:blip r:embed="rId2"/>
          <a:stretch/>
        </p:blipFill>
        <p:spPr>
          <a:xfrm>
            <a:off x="7162920" y="3657600"/>
            <a:ext cx="1693800" cy="29718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Disneyworld2"/>
          <p:cNvPicPr/>
          <p:nvPr/>
        </p:nvPicPr>
        <p:blipFill>
          <a:blip r:embed="rId3"/>
          <a:stretch/>
        </p:blipFill>
        <p:spPr>
          <a:xfrm>
            <a:off x="7010280" y="838080"/>
            <a:ext cx="1809720" cy="2362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students"/>
          <p:cNvPicPr/>
          <p:nvPr/>
        </p:nvPicPr>
        <p:blipFill>
          <a:blip r:embed="rId4"/>
          <a:stretch/>
        </p:blipFill>
        <p:spPr>
          <a:xfrm>
            <a:off x="533520" y="1143000"/>
            <a:ext cx="190476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latino Linotype"/>
              </a:rPr>
              <a:t>Undocumented Immig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53352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Undocumented immigrants may have entered the U.S. without showing a visa or green c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They may be here with expired pap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They do not have documents that allow them to stay in the U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Palatino Linotype"/>
              </a:rPr>
              <a:t>Can anyone who wants to become a citizen become 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Palatino Linotype"/>
              </a:rPr>
              <a:t>No, first somebody has to have a green c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alatino Linotype"/>
              </a:rPr>
              <a:t>Then how do you get a green c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Palatino Linotype"/>
              </a:rPr>
              <a:t>Only a few ways, and not everybody is eligible for 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Palatino Linotype"/>
              </a:rPr>
              <a:t>Here are the four 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4" descr="greencard2004"/>
          <p:cNvPicPr/>
          <p:nvPr/>
        </p:nvPicPr>
        <p:blipFill>
          <a:blip r:embed="rId1"/>
          <a:stretch/>
        </p:blipFill>
        <p:spPr>
          <a:xfrm>
            <a:off x="5334120" y="4419720"/>
            <a:ext cx="3429000" cy="20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500" autoRev="1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Roughly 70% of immigrants come to be reunited with fami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U.S. citizen adults can sponsor family members (spouse, parent, child or siblin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Lawful Permanent Residents can sponsor their spouse and any  unmarried child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7" descr="family in kitchen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657600"/>
          </a:xfrm>
          <a:prstGeom prst="rect">
            <a:avLst/>
          </a:prstGeom>
          <a:ln w="0">
            <a:noFill/>
          </a:ln>
        </p:spPr>
      </p:pic>
      <p:sp>
        <p:nvSpPr>
          <p:cNvPr id="420" name="Ink 8"/>
          <p:cNvSpPr/>
          <p:nvPr/>
        </p:nvSpPr>
        <p:spPr>
          <a:xfrm>
            <a:off x="4346640" y="2869416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2232" y="14734"/>
                </a:moveTo>
                <a:lnTo>
                  <a:pt x="2232" y="14734"/>
                </a:lnTo>
                <a:close/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Ink 9"/>
          <p:cNvSpPr/>
          <p:nvPr/>
        </p:nvSpPr>
        <p:spPr>
          <a:xfrm>
            <a:off x="42656040" y="1888812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21903" y="9699"/>
                </a:moveTo>
                <a:lnTo>
                  <a:pt x="21903" y="9699"/>
                </a:lnTo>
                <a:close/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1:25:08Z</dcterms:created>
  <dc:creator>l</dc:creator>
  <dc:description/>
  <dc:language>en-US</dc:language>
  <cp:lastModifiedBy>hberndt</cp:lastModifiedBy>
  <dcterms:modified xsi:type="dcterms:W3CDTF">2008-12-12T17:32:48Z</dcterms:modified>
  <cp:revision>55</cp:revision>
  <dc:subject/>
  <dc:title>PowerPoint Presentation</dc:title>
</cp:coreProperties>
</file>